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EF1F-C016-4A53-96CD-DEC63F3A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1E6-8F66-4953-B07B-10B69855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3F3-28E2-4199-A1DC-D01725AA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6D5-1B7E-4458-827B-BFBADE7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865-B551-420E-8B51-F88BBF4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C22-C602-46F4-B355-95D5488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AF2-0011-4294-AA4B-4D6C978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0FD-47D3-4021-8594-820E753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E4C-0F6A-46B8-BB61-3E3BBB12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92E-1C89-43C5-A974-D77710D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CF5-FD75-4777-A55E-B1E2854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31F-6FB3-49E3-B047-CA3AC22F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8A9-9947-4E54-801E-C1BD3060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27F-78BD-4DA6-8D5B-EB4AEAE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60C-F3C7-44D8-B213-24BDE42E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Seal_Of_The_President_Of_The_Unites_States_Of_Americ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eing_VC-25A_82-8000_USAF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en.wikipedia.org/wiki/Image:Marine_One_Whitehouse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liticallycorrect.com/images/indec.gif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images.google.com/imgres?imgurl=www.sec.state.la.us/IMG/holidays/Memorial/us-flag-250px.jpg&amp;imgrefurl=http://www.sec.state.la.us/comm/sosdir.htm&amp;h=162&amp;w=250&amp;start=1&amp;prev=/images%3Fq%3DU.S.%2Bflag%26svnum%3D10%26hl%3Den%26lr%3D%26ie%3DUTF-8%26oe%3DUTF-8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pol.tcnj.edu/amer_pol_hist/thumbnail189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eagan_Bush_198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37" descr="Image:Seal Of The President Of The Unites States Of Americ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1984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62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4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ost Popular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ranklin Roosevel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as the only President elected more than tw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was elected (4)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of the elections were land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72-5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523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49-8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32-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r>
              <a:rPr b="1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Amend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assed 6 years after FDR’s death, said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esident could ever again serve more than 2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fdr"/>
          <p:cNvPicPr/>
          <p:nvPr/>
        </p:nvPicPr>
        <p:blipFill>
          <a:blip r:embed="rId1"/>
          <a:stretch/>
        </p:blipFill>
        <p:spPr>
          <a:xfrm>
            <a:off x="4443480" y="1371600"/>
            <a:ext cx="45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23920" y="1295280"/>
            <a:ext cx="4038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he’s elected, the President receives many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lary is $400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his own private luxury 747 airl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 private helico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nd his family are protected by the secret service for the rest of their liv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 staff of hundreds to help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numerou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300px-Boeing_VC-25A_82-8000_USA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4038480" cy="23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arine One lifting off of the White House south la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962520"/>
            <a:ext cx="4114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hite Ho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s the President’s official h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President except Washington has lived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at 1600 Pennsylvania Avenue in Washington, D.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k of the president is done is the “West Wing”, the First Lady’s office is in the “East W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sident’s office is called the “Oval Offic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260px-North_Fa%C3%A7ade_White_House"/>
          <p:cNvPicPr/>
          <p:nvPr/>
        </p:nvPicPr>
        <p:blipFill>
          <a:blip r:embed="rId1"/>
          <a:stretch/>
        </p:blipFill>
        <p:spPr>
          <a:xfrm>
            <a:off x="380880" y="2209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Hidea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ides the White House in Washington, D.C., the President also gets to us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mp Davi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rural Marylan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both works and lives in these h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presidents also use their private homes as places of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ident Obama’s home in Chicago, Illinois can be used as a retreat and as a place to receive official guests of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Main Lodge at Camp David during Nixon administration, February 9, 1971.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arack Obama's house, Chicago. All photos under copyright; may not be used without permission."/>
          <p:cNvPicPr/>
          <p:nvPr/>
        </p:nvPicPr>
        <p:blipFill>
          <a:blip r:embed="rId2"/>
          <a:stretch/>
        </p:blipFill>
        <p:spPr>
          <a:xfrm>
            <a:off x="4648320" y="38718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ice-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ce-President becomes President if the President dies in office or cannot continue his term for whatever 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happened 9 times in U.S.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Constitutional role the Vice President has is to lead the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esidents give the Vice President other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last three Vice Preside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oe Bi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ck Cheney and Al Gore have played a larger role in government than most other Vice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Joe_Biden%2C_official_photo_portrait_2-cropped"/>
          <p:cNvPicPr/>
          <p:nvPr/>
        </p:nvPicPr>
        <p:blipFill>
          <a:blip r:embed="rId1"/>
          <a:stretch/>
        </p:blipFill>
        <p:spPr>
          <a:xfrm>
            <a:off x="4952880" y="13716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unthinkable hap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ne Presidents have not been able to finish their elected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wer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died of s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signed under threat of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ine Vice Presidents have become President unexpec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Vice President Dick Cheney and Mrs. Lynne Cheney salute as the casket of former President Gerald R. Ford is carried by a military honor guard during interment ceremonies on the grounds of the Gerald R. Ford Presidential Museum in Grand Rapids, Mich., Wednesday, January 3, 2007."/>
          <p:cNvPicPr/>
          <p:nvPr/>
        </p:nvPicPr>
        <p:blipFill>
          <a:blip r:embed="rId1"/>
          <a:stretch/>
        </p:blipFill>
        <p:spPr>
          <a:xfrm>
            <a:off x="457200" y="2470320"/>
            <a:ext cx="403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Henry H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President to die in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President for only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inauguration day was very cold and rainy, yet he made the longest speech in history (10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he caught pneumonia and died one month later on April 4,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Ty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rst Vice President to assume the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William Henry Harrison"/>
          <p:cNvPicPr/>
          <p:nvPr/>
        </p:nvPicPr>
        <p:blipFill>
          <a:blip r:embed="rId1"/>
          <a:stretch/>
        </p:blipFill>
        <p:spPr>
          <a:xfrm>
            <a:off x="5486400" y="1676520"/>
            <a:ext cx="27687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chary Tay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was the second President to die i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came down with a stomach virus after a ceremony at the Washington Monument on a very hot July 4, 18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died 5 days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llard Fillmo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new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had been rumors that the President had been poisoned.  They were disproved in 1991 when his body was exhumed and tested for the po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Portrait of Zachary Taylor"/>
          <p:cNvPicPr/>
          <p:nvPr/>
        </p:nvPicPr>
        <p:blipFill>
          <a:blip r:embed="rId1"/>
          <a:stretch/>
        </p:blipFill>
        <p:spPr>
          <a:xfrm>
            <a:off x="1143000" y="1447920"/>
            <a:ext cx="30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coln was the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 to b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ssassin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shot on April 14, 1865 while at a play in Ford’s Theatre in Washington, D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killed by actor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 Confederate sympathizer from Mississipp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drew Johns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became President when Lincoln died the next 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hnson would become the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 to be impeach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Portrait of Abraham Lincoln"/>
          <p:cNvPicPr/>
          <p:nvPr/>
        </p:nvPicPr>
        <p:blipFill>
          <a:blip r:embed="rId1"/>
          <a:stretch/>
        </p:blipFill>
        <p:spPr>
          <a:xfrm>
            <a:off x="4648320" y="1143000"/>
            <a:ext cx="199368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The_Assassination_of_President_Lincoln_-_Currier_and_Ives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ain job of the Executive branch is to 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d by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s the Vice President, Cabinet mem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ny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largest of the three br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Official Cabinet Photo"/>
          <p:cNvPicPr/>
          <p:nvPr/>
        </p:nvPicPr>
        <p:blipFill>
          <a:blip r:embed="rId1"/>
          <a:stretch/>
        </p:blipFill>
        <p:spPr>
          <a:xfrm>
            <a:off x="123840" y="2438280"/>
            <a:ext cx="4726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Gar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rfield was shot on July 2, 1881 while his train stopped in New Jers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lived until September 19, when he died of blood poiso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ctual cause of death was an infection caused by his doctors using unsterile instruments, not the bull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shot by Charles Guiteau, who was upset after having his application to be ambassador to France rejec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ester A. Arth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Portrait of James A. Garfield"/>
          <p:cNvPicPr/>
          <p:nvPr/>
        </p:nvPicPr>
        <p:blipFill>
          <a:blip r:embed="rId1"/>
          <a:stretch/>
        </p:blipFill>
        <p:spPr>
          <a:xfrm>
            <a:off x="304920" y="1143000"/>
            <a:ext cx="240984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Garfield's assassination"/>
          <p:cNvPicPr/>
          <p:nvPr/>
        </p:nvPicPr>
        <p:blipFill>
          <a:blip r:embed="rId2"/>
          <a:stretch/>
        </p:blipFill>
        <p:spPr>
          <a:xfrm>
            <a:off x="1905120" y="4724280"/>
            <a:ext cx="25905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just beginning his second term when he was shot in Buffalo, NY in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8 days later, mak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ddy Rooseve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ssassin was Leon Czolgosz, an anarch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age of the assassination"/>
          <p:cNvPicPr/>
          <p:nvPr/>
        </p:nvPicPr>
        <p:blipFill>
          <a:blip r:embed="rId1"/>
          <a:stretch/>
        </p:blipFill>
        <p:spPr>
          <a:xfrm>
            <a:off x="5029200" y="4038480"/>
            <a:ext cx="3505320" cy="254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Portrait of William McKinley"/>
          <p:cNvPicPr/>
          <p:nvPr/>
        </p:nvPicPr>
        <p:blipFill>
          <a:blip r:embed="rId2"/>
          <a:stretch/>
        </p:blipFill>
        <p:spPr>
          <a:xfrm>
            <a:off x="5943600" y="1295280"/>
            <a:ext cx="1733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en G. 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164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ing is considered to be one of the worst U.S. Presidents by his involvement in several scand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death in 1923 was mysterious.  While returning home from a trip to Alaska he got sick and di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howed signs of food poisoning, developed pneumonia and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rumored that he was poisoned by his wife, whom he had been unfaithful to on several occa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fe would not allow an autopsy after his death, so the actual cause of death was never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vin Cool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ew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ortrait of Warren G. Harding"/>
          <p:cNvPicPr/>
          <p:nvPr/>
        </p:nvPicPr>
        <p:blipFill>
          <a:blip r:embed="rId1"/>
          <a:stretch/>
        </p:blipFill>
        <p:spPr>
          <a:xfrm>
            <a:off x="1371600" y="1600200"/>
            <a:ext cx="28116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he longest serving U.S. president, as he began a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 in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suffered though physical disabilities due to Polio throughout his Presi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of a brain hemorrhage on April 12, 1945 as World War II was contin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y S. Tru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me President.  He had only become Vice President during the current term and was not very well informed by FDR on war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had more challenges than any other Vice President taking over, yet is considered one of the best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Portrait of Franklin D. Roosevelt"/>
          <p:cNvPicPr/>
          <p:nvPr/>
        </p:nvPicPr>
        <p:blipFill>
          <a:blip r:embed="rId1"/>
          <a:stretch/>
        </p:blipFill>
        <p:spPr>
          <a:xfrm>
            <a:off x="4952880" y="1371600"/>
            <a:ext cx="28227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F. Kennedy was shot and killed instantly in Dallas, Texas on November 22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ndon B. John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becam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rren Commission, a special Presidential Commission, ruled that Lee Harvey Oswald was the lone gun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did not believe the commission and there are still many conspiracy theories that surround Kennedy’s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John F. Kennedy"/>
          <p:cNvPicPr/>
          <p:nvPr/>
        </p:nvPicPr>
        <p:blipFill>
          <a:blip r:embed="rId1"/>
          <a:stretch/>
        </p:blipFill>
        <p:spPr>
          <a:xfrm>
            <a:off x="1219320" y="1143000"/>
            <a:ext cx="223668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mage:Zapruder-150.jpg"/>
          <p:cNvPicPr/>
          <p:nvPr/>
        </p:nvPicPr>
        <p:blipFill>
          <a:blip r:embed="rId2"/>
          <a:stretch/>
        </p:blipFill>
        <p:spPr>
          <a:xfrm>
            <a:off x="609480" y="396252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Nixon was being investigated by the House of Representatives for his part in the “Watergate” Scandal and was about to b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resign before he was forced out of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ent on television and announced his decision on August 8, 19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Presid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ald F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k over the next day as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Richard Nixon"/>
          <p:cNvPicPr/>
          <p:nvPr/>
        </p:nvPicPr>
        <p:blipFill>
          <a:blip r:embed="rId1"/>
          <a:stretch/>
        </p:blipFill>
        <p:spPr>
          <a:xfrm>
            <a:off x="5181480" y="2057400"/>
            <a:ext cx="300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picked Gerald F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ld Ford took over from Nixon in 1974 as the only un-elected President in U.S.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72, Nixon was re-elected with Spiro Agnew as his Vice-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new was caught in a scandal of his own for taking b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new resigned and Nixon appointed Ford to replace him as Vic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ixon had to resign too, Ford became President, having not ever even won a statewide election.  He had been a member of the House of Representatives from Michigan before becoming Vic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not elected in 1976, losing to Jimmy C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Gerald Ford"/>
          <p:cNvPicPr/>
          <p:nvPr/>
        </p:nvPicPr>
        <p:blipFill>
          <a:blip r:embed="rId1"/>
          <a:stretch/>
        </p:blipFill>
        <p:spPr>
          <a:xfrm>
            <a:off x="1066680" y="1676520"/>
            <a:ext cx="2973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sidential Succession Act of 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a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lears up who becomes President if the President and other high government officials were to die at the sam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e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Speak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) President Pro Tempore of Se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) Secretary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14 Cabinet Secretar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order that their departments were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also cleared up by the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49525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g jo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enforcing laws, the Executive branch has many other du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fend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relations with foreig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industry to protect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general welfare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receives help from many departments and millions of employees to meet these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t is not 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re are 15 Departments within the Executive Bran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help the President carry out his responsi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George Washingto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reated the first four Departments of State, Treasury, War, and Justice.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ll still exist, except the War Department is now called the Defense Depart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other 11 were created as the need for them came 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rec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as created by President Bush in 2002 ,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partment of Homeland Security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What do you think it do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is the leader of the nation as well as the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ent is ele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oral Colle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 year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itu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s 3 qualifications one must meet to be President: 1) at least 35 years old, 2) be born a U.S. citizen, and 3) have lived in the U.S. for at least 1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Official_portrait_of_Barack_Obama"/>
          <p:cNvPicPr/>
          <p:nvPr/>
        </p:nvPicPr>
        <p:blipFill>
          <a:blip r:embed="rId1"/>
          <a:stretch/>
        </p:blipFill>
        <p:spPr>
          <a:xfrm>
            <a:off x="5003640" y="1600200"/>
            <a:ext cx="332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14300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ident and VP are elected by the states through the electoral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ate’s number of electoral votes is equal to its combined number of Senators and Representatives in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irginia has 2 Senators and 11 Representatives, we get 13 electoral v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total of 538 electoral votes, equal to the 100 Senators + 435 Representatives + 3 electoral votes for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state holds an election where the people vote on how to cast the state’s electoral votes for President.  This is called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pular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A_certificate_for_the_electoral_vote_for_George_W"/>
          <p:cNvPicPr/>
          <p:nvPr/>
        </p:nvPicPr>
        <p:blipFill>
          <a:blip r:embed="rId1"/>
          <a:stretch/>
        </p:blipFill>
        <p:spPr>
          <a:xfrm>
            <a:off x="743040" y="160020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“winner take all” syste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most states. Whichever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did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popular votes gets ALL of the state’s electoral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 candidate has won a state, its electoral votes go into his colum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irst candidate to get 271 electoral votes is the winner.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f no candidate receives a majority of the electoral vote, the House of Representatives chooses the Presi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e candidate with the most overall votes from the people does not win the election because of the combination of state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ost recent example was in 2000.  Bush won the electoral college, even though Gore got over 500,000 more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m"/>
          <p:cNvPicPr/>
          <p:nvPr/>
        </p:nvPicPr>
        <p:blipFill>
          <a:blip r:embed="rId1"/>
          <a:stretch/>
        </p:blipFill>
        <p:spPr>
          <a:xfrm>
            <a:off x="4911840" y="1600200"/>
            <a:ext cx="35100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goremoreflagSAM"/>
          <p:cNvPicPr/>
          <p:nvPr/>
        </p:nvPicPr>
        <p:blipFill>
          <a:blip r:embed="rId2"/>
          <a:stretch/>
        </p:blipFill>
        <p:spPr>
          <a:xfrm>
            <a:off x="4952880" y="4168800"/>
            <a:ext cx="40388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oral Fail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nde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676520"/>
            <a:ext cx="4496040" cy="2630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imes no one won a majority and the House had to choose the 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ed in 1796 and 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imes the Electoral College has not chosen the same President as the winner of the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ed in 1876, 1888 and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us-flag-250p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876920"/>
            <a:ext cx="2451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02"/>
          <p:cNvPicPr/>
          <p:nvPr/>
        </p:nvPicPr>
        <p:blipFill>
          <a:blip r:embed="rId1"/>
          <a:stretch/>
        </p:blipFill>
        <p:spPr>
          <a:xfrm>
            <a:off x="1143000" y="1371600"/>
            <a:ext cx="289728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the most controversial and confusing election is U.S.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ote was divided among 4 major candi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n, even through 6 out of 10 voters voted for someone 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coln was not even on the ballot in most Southern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election led South Carolina to leave the Union in December.  Eventually 10 other Southern states would follow and form the Confedera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d to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vil W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Lincoln did not recognize their right to leave the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Map of the Presidential Election of 1860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aren’t so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e Presidential election is not even close in the popular vote or the electoral colle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ichard Nix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on re-election over George McGover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20-17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y over 18 million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nald Reag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feated the sitting President, Jimmy Carter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89-49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He was re-elected 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ver Walter Mondal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25-1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almost 17 million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President Ronald Reagan and Vice President George Bush at the 1984 Republican National Convention in Dallas, Texa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43434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5:04:54Z</dcterms:created>
  <dc:creator>Osama Agami</dc:creator>
  <dc:description/>
  <dc:language>en-US</dc:language>
  <cp:lastModifiedBy>Phillip C. McGinnis</cp:lastModifiedBy>
  <dcterms:modified xsi:type="dcterms:W3CDTF">2013-12-20T15:38:01Z</dcterms:modified>
  <cp:revision>103</cp:revision>
  <dc:subject/>
  <dc:title>Slide 1</dc:title>
</cp:coreProperties>
</file>